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8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5.wmf" ContentType="image/x-wmf"/>
  <Override PartName="/ppt/media/image25.png" ContentType="image/png"/>
  <Override PartName="/ppt/media/image11.png" ContentType="image/png"/>
  <Override PartName="/ppt/media/image48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40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4C9-901F-4220-990C-E0660FE2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E3E-4D8B-43E4-A58F-F5FA7594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D3C-B77F-464A-A67A-E00D0313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2DF-0FD4-4E54-AA5E-9AD4170C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D3A7-56DC-4C20-9075-55CB1231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F42F-8F18-43CC-8B67-CD98AFF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4CE-F8A4-4DE4-93D9-1C6C5F8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5C7F-80F8-437E-88A6-C8066FC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A9BB-6E09-4355-B32D-3E4AA0D5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436B-184C-4DAF-9593-6722E6E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DDCA-EFBC-4BDF-A5DB-98F46DC1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4EA-CBA7-49E2-8092-634CC32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F9E4-4CFB-4E80-BA33-A49C9B6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37C-2426-46A1-8361-3D1418B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72B7-425D-41BA-8F59-F9729E40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7A9B-67AA-46F8-B6C9-D588324C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B3D-6878-46C3-896F-93E8F93D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D65-992D-47B8-870F-5A3756E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09A-F264-4C7A-B375-CD70B729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C4A-6654-4186-9924-BB56F6B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4A9-7A72-4A68-B583-69E2228C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004-AA85-4264-88EF-30ABD94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CAC-180C-419A-A443-D258EF5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CC0-E871-4F92-BCCD-CC2DCAA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9F6-F387-47A6-B507-E5C0E0849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BFC-10C5-464E-B637-43A7D21C60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.wmf"/><Relationship Id="rId37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indows hálózati infrastruktúra kialakítás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19200" y="1528920"/>
            <a:ext cx="610704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4520" y="1514520"/>
            <a:ext cx="61149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09840" y="1523880"/>
            <a:ext cx="6126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09840" y="1133640"/>
            <a:ext cx="61261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8920" y="1128600"/>
            <a:ext cx="60879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endők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zükséges hardver felmér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 ami már meg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 amit, ki kell dob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kell beszerez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yen hálózati szolgáltatásokat aka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ezé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om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el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14520" y="1133640"/>
            <a:ext cx="61149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14520" y="1133640"/>
            <a:ext cx="61149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19200" y="1133640"/>
            <a:ext cx="6107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ükséges adat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P címtartomá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jes tartományné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rverek és a munkaállomások egyedi nev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internet-szolgáltató nameservereinek az IP cí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ítés : a vezérlőpultban programok hozzáadását elindítva, válasszuk ki a Windows összetevők hozzáadását, és jelöljük ki a hálózati szolgáltatások közül a DNS –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126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26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7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34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264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gy kis vállalat hálóza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13683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1368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411280" y="1989000"/>
          <a:ext cx="58752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1989000"/>
                    <a:ext cx="5875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08720" y="5160960"/>
          <a:ext cx="84456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5160960"/>
                    <a:ext cx="8445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3359160"/>
          <a:ext cx="936720" cy="73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3359160"/>
                    <a:ext cx="9367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58920" y="4292640"/>
          <a:ext cx="744480" cy="94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4292640"/>
                    <a:ext cx="7444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11280" y="4221000"/>
          <a:ext cx="744840" cy="107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4221000"/>
                    <a:ext cx="744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076720" y="1844640"/>
          <a:ext cx="741600" cy="100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6720" y="1844640"/>
                    <a:ext cx="741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92360" y="1773360"/>
          <a:ext cx="744840" cy="101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92360" y="1773360"/>
                    <a:ext cx="7448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732720" y="2492280"/>
          <a:ext cx="1001520" cy="947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2720" y="2492280"/>
                    <a:ext cx="1001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27640" y="2997360"/>
          <a:ext cx="594000" cy="77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27640" y="2997360"/>
                    <a:ext cx="5940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948360" y="2708280"/>
          <a:ext cx="1001880" cy="94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48360" y="2708280"/>
                    <a:ext cx="1001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164360" y="2924280"/>
          <a:ext cx="1001880" cy="947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4360" y="2924280"/>
                    <a:ext cx="1001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380360" y="3139920"/>
          <a:ext cx="1001520" cy="947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80360" y="3139920"/>
                    <a:ext cx="1001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96360" y="3355920"/>
          <a:ext cx="1001520" cy="94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96360" y="3355920"/>
                    <a:ext cx="1001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443640" y="3213000"/>
          <a:ext cx="593640" cy="773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43640" y="321300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659640" y="3429000"/>
          <a:ext cx="593640" cy="773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59640" y="342900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75640" y="3645000"/>
          <a:ext cx="593640" cy="77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875640" y="3645000"/>
                    <a:ext cx="5936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091280" y="3860640"/>
          <a:ext cx="593640" cy="773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091280" y="386064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9" name=""/>
          <p:cNvCxnSpPr/>
          <p:nvPr/>
        </p:nvCxnSpPr>
        <p:spPr>
          <a:xfrm flipV="1">
            <a:off x="2998440" y="2280600"/>
            <a:ext cx="494280" cy="183240"/>
          </a:xfrm>
          <a:prstGeom prst="bentConnector3">
            <a:avLst>
              <a:gd name="adj1" fmla="val 49781"/>
            </a:avLst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 rot="16200000">
            <a:off x="4059000" y="2594520"/>
            <a:ext cx="570600" cy="959400"/>
          </a:xfrm>
          <a:prstGeom prst="bentConnector3">
            <a:avLst>
              <a:gd name="adj1" fmla="val 49810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 rot="10800000">
            <a:off x="4823640" y="2345400"/>
            <a:ext cx="253080" cy="101340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 rot="10800000">
            <a:off x="1631160" y="3728520"/>
            <a:ext cx="2724840" cy="56448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H="1" flipV="1" rot="5400000">
            <a:off x="3323880" y="3188520"/>
            <a:ext cx="492840" cy="1572120"/>
          </a:xfrm>
          <a:prstGeom prst="bentConnector2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/>
          <p:nvPr/>
        </p:nvCxnSpPr>
        <p:spPr>
          <a:xfrm flipH="1" rot="16200000">
            <a:off x="4846680" y="4076280"/>
            <a:ext cx="1062720" cy="1107360"/>
          </a:xfrm>
          <a:prstGeom prst="bentConnector3">
            <a:avLst>
              <a:gd name="adj1" fmla="val 49915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 flipV="1">
            <a:off x="5292360" y="2491920"/>
            <a:ext cx="1942200" cy="1236960"/>
          </a:xfrm>
          <a:prstGeom prst="bentConnector4">
            <a:avLst>
              <a:gd name="adj1" fmla="val 37041"/>
              <a:gd name="adj2" fmla="val 118515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>
            <a:off x="1836720" y="2304720"/>
            <a:ext cx="575280" cy="159480"/>
          </a:xfrm>
          <a:prstGeom prst="bentConnector3">
            <a:avLst>
              <a:gd name="adj1" fmla="val 49968"/>
            </a:avLst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9528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300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 szerverek: WWW, adatbázis, level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14130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48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 vezér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1484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űzfal, proxy sz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hhoz, hogy a AD szolgáltatás sikeresen települjön, a következő beállításokra van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eendő tartományvezérlő saját maga legyen a elsődleges DNS sz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hoz tartozó elsődleges zonán engedélyezni a dinamikus frissíté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hoz tartozó SOA rekord beáll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NS szolgáltatás telepítése és beállítás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alhálózaton egyszerre csak egy DHCP szerver le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HCP szervert telepítés után érvényesíte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után kell egy új úgynevezett scope –ot létrehozni, melyet egy varázsló segítségével , könnyedén megtehetün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2b2b2"/>
                </a:solidFill>
                <a:latin typeface="Arial"/>
              </a:rPr>
              <a:t>Active Directory telepítés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es információk összegyűj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ülső szolgáltatótól kapott hálózati beállít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címek, DNS címek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lső hálózat paraméter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ználni kívánt IP cím tart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állalati névtér és tartomány struktú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zerverek és munkaállomások elnevezés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 szerkezeti megtervezé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rkezeti struktúrá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30320" y="1274760"/>
            <a:ext cx="3046320" cy="1604880"/>
            <a:chOff x="1030320" y="1274760"/>
            <a:chExt cx="3046320" cy="1604880"/>
          </a:xfrm>
        </p:grpSpPr>
        <p:sp>
          <p:nvSpPr>
            <p:cNvPr id="156" name=""/>
            <p:cNvSpPr/>
            <p:nvPr/>
          </p:nvSpPr>
          <p:spPr>
            <a:xfrm>
              <a:off x="1030320" y="1274760"/>
              <a:ext cx="3046320" cy="1604880"/>
            </a:xfrm>
            <a:prstGeom prst="roundRect">
              <a:avLst>
                <a:gd name="adj" fmla="val 16667"/>
              </a:avLst>
            </a:prstGeom>
            <a:solidFill>
              <a:srgbClr val="dfe8f2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560" bIns="1401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Funkció alap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165320" y="1625760"/>
              <a:ext cx="1307880" cy="1153800"/>
              <a:chOff x="1165320" y="1625760"/>
              <a:chExt cx="1307880" cy="115380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65320" y="1625760"/>
                <a:ext cx="1307880" cy="11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663920" y="177948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311480" y="236988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0800" y="236700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482920" y="175896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Kereskedel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Könyvel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- Marke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338800" y="1432080"/>
            <a:ext cx="2822400" cy="2985840"/>
            <a:chOff x="5338800" y="1432080"/>
            <a:chExt cx="2822400" cy="2985840"/>
          </a:xfrm>
        </p:grpSpPr>
        <p:sp>
          <p:nvSpPr>
            <p:cNvPr id="164" name=""/>
            <p:cNvSpPr/>
            <p:nvPr/>
          </p:nvSpPr>
          <p:spPr>
            <a:xfrm>
              <a:off x="5600520" y="1841400"/>
              <a:ext cx="2292120" cy="2576520"/>
            </a:xfrm>
            <a:custGeom>
              <a:avLst/>
              <a:gdLst>
                <a:gd name="textAreaLeft" fmla="*/ 28800 w 2292120"/>
                <a:gd name="textAreaRight" fmla="*/ 2263320 w 2292120"/>
                <a:gd name="textAreaTop" fmla="*/ 28800 h 2576520"/>
                <a:gd name="textAreaBottom" fmla="*/ 2547720 h 2576520"/>
              </a:gdLst>
              <a:ahLst/>
              <a:rect l="textAreaLeft" t="textAreaTop" r="textAreaRight" b="textAreaBottom"/>
              <a:pathLst>
                <a:path w="21600" h="24280">
                  <a:moveTo>
                    <a:pt x="927" y="0"/>
                  </a:moveTo>
                  <a:arcTo wR="927" hR="927" stAng="16200000" swAng="-5400000"/>
                  <a:lnTo>
                    <a:pt x="0" y="23353"/>
                  </a:lnTo>
                  <a:arcTo wR="927" hR="927" stAng="10800000" swAng="-5400000"/>
                  <a:lnTo>
                    <a:pt x="20673" y="24280"/>
                  </a:lnTo>
                  <a:arcTo wR="927" hR="927" stAng="5400000" swAng="-5400000"/>
                  <a:lnTo>
                    <a:pt x="21600" y="927"/>
                  </a:lnTo>
                  <a:arcTo wR="927" hR="927" stAng="0" swAng="-5400000"/>
                  <a:close/>
                </a:path>
              </a:pathLst>
            </a:custGeom>
            <a:gradFill rotWithShape="0">
              <a:gsLst>
                <a:gs pos="0">
                  <a:srgbClr val="bbcde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8800" y="1432080"/>
              <a:ext cx="282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 Narrow"/>
                </a:rPr>
                <a:t>Hibrid mode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6840" y="1841400"/>
              <a:ext cx="211248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06720" y="1979640"/>
              <a:ext cx="2085840" cy="6555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Funkci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395280" indent="-163440">
                <a:lnSpc>
                  <a:spcPct val="85000"/>
                </a:lnSpc>
                <a:spcBef>
                  <a:spcPts val="337"/>
                </a:spcBef>
                <a:buClr>
                  <a:srgbClr val="8dacd0"/>
                </a:buClr>
                <a:buFont typeface="Wingdings" charset="2"/>
                <a:buChar char="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 Narrow"/>
                </a:rPr>
                <a:t>Szervez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06720" y="2727360"/>
              <a:ext cx="2085840" cy="6555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Telephe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395280" indent="-163440">
                <a:lnSpc>
                  <a:spcPct val="85000"/>
                </a:lnSpc>
                <a:spcBef>
                  <a:spcPts val="337"/>
                </a:spcBef>
                <a:buClr>
                  <a:srgbClr val="8dacd0"/>
                </a:buClr>
                <a:buFont typeface="Wingdings" charset="2"/>
                <a:buChar char="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 Narrow"/>
                </a:rPr>
                <a:t>Funkci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6720" y="3476520"/>
              <a:ext cx="2085840" cy="655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Szervez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395280" indent="-163440">
                <a:lnSpc>
                  <a:spcPct val="85000"/>
                </a:lnSpc>
                <a:spcBef>
                  <a:spcPts val="337"/>
                </a:spcBef>
                <a:buClr>
                  <a:srgbClr val="8dacd0"/>
                </a:buClr>
                <a:buFont typeface="Wingdings" charset="2"/>
                <a:buChar char="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 Narrow"/>
                </a:rPr>
                <a:t>Telephe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112840" y="2954160"/>
            <a:ext cx="3046320" cy="1605240"/>
            <a:chOff x="2112840" y="2954160"/>
            <a:chExt cx="3046320" cy="1605240"/>
          </a:xfrm>
        </p:grpSpPr>
        <p:sp>
          <p:nvSpPr>
            <p:cNvPr id="171" name=""/>
            <p:cNvSpPr/>
            <p:nvPr/>
          </p:nvSpPr>
          <p:spPr>
            <a:xfrm>
              <a:off x="2112840" y="2954160"/>
              <a:ext cx="3046320" cy="1605240"/>
            </a:xfrm>
            <a:prstGeom prst="roundRect">
              <a:avLst>
                <a:gd name="adj" fmla="val 16667"/>
              </a:avLst>
            </a:prstGeom>
            <a:solidFill>
              <a:srgbClr val="dfe8f2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0" bIns="1402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Szervezeti felépítés alap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47840" y="3300480"/>
              <a:ext cx="1307880" cy="1154160"/>
              <a:chOff x="2247840" y="3300480"/>
              <a:chExt cx="1307880" cy="1154160"/>
            </a:xfrm>
          </p:grpSpPr>
          <p:pic>
            <p:nvPicPr>
              <p:cNvPr id="1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7840" y="3300480"/>
                <a:ext cx="1307880" cy="11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720880" y="344160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00120" y="4044960"/>
                <a:ext cx="28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76560" y="404496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565440" y="3552840"/>
              <a:ext cx="12952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Gyártá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Tervez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-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Kutatá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82760" y="4635360"/>
            <a:ext cx="3046320" cy="1604880"/>
            <a:chOff x="3182760" y="4635360"/>
            <a:chExt cx="3046320" cy="1604880"/>
          </a:xfrm>
        </p:grpSpPr>
        <p:sp>
          <p:nvSpPr>
            <p:cNvPr id="179" name=""/>
            <p:cNvSpPr/>
            <p:nvPr/>
          </p:nvSpPr>
          <p:spPr>
            <a:xfrm>
              <a:off x="3182760" y="4635360"/>
              <a:ext cx="3046320" cy="1604880"/>
            </a:xfrm>
            <a:prstGeom prst="roundRect">
              <a:avLst>
                <a:gd name="adj" fmla="val 16667"/>
              </a:avLst>
            </a:prstGeom>
            <a:solidFill>
              <a:srgbClr val="dfe8f2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560" bIns="1401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Telephely alap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317760" y="4997520"/>
              <a:ext cx="1307880" cy="1153800"/>
              <a:chOff x="3317760" y="4997520"/>
              <a:chExt cx="1307880" cy="1153800"/>
            </a:xfrm>
          </p:grpSpPr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17760" y="4997520"/>
                <a:ext cx="1307880" cy="11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809520" y="51386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79400" y="57416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5840" y="5741640"/>
                <a:ext cx="2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 Narrow"/>
                  </a:rPr>
                  <a:t>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635360" y="513864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Budapes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Miskol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– </a:t>
              </a:r>
              <a:r>
                <a:rPr b="0" lang="hu-HU" sz="1600" spc="-1" strike="noStrike">
                  <a:solidFill>
                    <a:srgbClr val="000000"/>
                  </a:solidFill>
                  <a:latin typeface="Arial Narrow"/>
                </a:rPr>
                <a:t>Sopr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HCP telepítése és beállít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olgáltatás telepítése a dcpromo.exe futtatásával törté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ügyeleti eszközök szerver konfigurálása menüpontból is elindít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vezérlő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Server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szolgáltatás telepítése és be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CP Server szolgáltatás telepítése és be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szolgáltatás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 szolgáltatás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imálisan szükséges hardve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56 MB 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GB H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lózati kárt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GA kártya,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jánlott hard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12 MB 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0 GB H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00 MBites vagy gyorsabb hálózati kárt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GA vezérlő, DVD ír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09840" y="1514520"/>
            <a:ext cx="61261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Server telepít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09840" y="1528920"/>
            <a:ext cx="61261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8:13:08Z</dcterms:created>
  <dc:creator>Nagymáté Péter</dc:creator>
  <dc:description/>
  <dc:language>en-US</dc:language>
  <cp:lastModifiedBy>Nagymáté Péter</cp:lastModifiedBy>
  <dcterms:modified xsi:type="dcterms:W3CDTF">2004-11-23T13:33:42Z</dcterms:modified>
  <cp:revision>14</cp:revision>
  <dc:subject/>
  <dc:title>Windows hálózati infrastruktúra kialakítása</dc:title>
</cp:coreProperties>
</file>